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E73-B3FD-4939-A1B9-87B9A865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2CE-681B-40F4-A3C3-FFA44781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A12-984D-498B-97A5-2A0AF069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C07-91FA-4FC3-8B32-025170C1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BE13-5924-4772-A0C1-845F60E1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2464-EB4C-4807-A624-C46FC8A2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3F3F-DA4B-4A6E-AC3C-D45AEF7D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EAE7-69E4-4FA7-BFE9-93F9A05E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A525-EB1B-49F4-9142-9E0BD0F3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287A-497D-497B-965F-DF863398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1AD6-17D8-4BEC-A279-23E979A4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B0D-1398-4827-A1B2-B95F7D6B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1CBB-969B-4CDE-A5CE-FC3D1E6C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442F-6995-4224-B3D3-4C835811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4D82-E154-42D4-9D3F-7C09E6AC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7026-7B8A-47A9-A83B-8F267516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13A5-C9B0-412F-B175-684B56B7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D61-7D80-48CF-A50E-ABE321F6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F8F-126C-4C7B-AE70-CB183208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949-A31E-42B0-ACD4-40603C4E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084-BF67-4E9E-A325-7CA5DFBD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9A2-9B27-4097-A47A-D0980D8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3FB-4DD8-443E-9076-FD66044E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4A8-BFE9-4900-8C26-95E76F72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40FD-3A98-4267-8A50-800E65BE5D3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2390-9230-4AF8-A650-3B43B1B6ED1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4320" y="1285920"/>
            <a:ext cx="70722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0033"/>
                </a:solidFill>
                <a:latin typeface="Times New Roman"/>
              </a:rPr>
              <a:t>Obsolescencia del Hardware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57200" y="3714840"/>
            <a:ext cx="714384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ech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amela Arias Var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f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strella Córd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I 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330033"/>
                </a:solidFill>
                <a:latin typeface="Times New Roman"/>
              </a:rPr>
              <a:t>Aspectos Medio Ambiental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8800" y="2214720"/>
            <a:ext cx="77724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Varias empresas ya se han comprometido a remplazar algunos de los químicos de los computadores, tales como los metales pesados (mercurio, plomo, cadmio), por otras sustancias menos nocivas para el medi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Familia\Escritorio\pilacomp.jpg"/>
          <p:cNvPicPr/>
          <p:nvPr/>
        </p:nvPicPr>
        <p:blipFill>
          <a:blip r:embed="rId1"/>
          <a:stretch/>
        </p:blipFill>
        <p:spPr>
          <a:xfrm>
            <a:off x="5929200" y="4357800"/>
            <a:ext cx="20750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Familia\Escritorio\basura-electronica-1.jpg"/>
          <p:cNvPicPr/>
          <p:nvPr/>
        </p:nvPicPr>
        <p:blipFill>
          <a:blip r:embed="rId1"/>
          <a:stretch/>
        </p:blipFill>
        <p:spPr>
          <a:xfrm>
            <a:off x="642960" y="642960"/>
            <a:ext cx="4681440" cy="36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Familia\Escritorio\o_Basura Electrónica2 wastes 3.GIF"/>
          <p:cNvPicPr/>
          <p:nvPr/>
        </p:nvPicPr>
        <p:blipFill>
          <a:blip r:embed="rId2"/>
          <a:stretch/>
        </p:blipFill>
        <p:spPr>
          <a:xfrm>
            <a:off x="3143160" y="3357720"/>
            <a:ext cx="5334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330033"/>
                </a:solidFill>
                <a:latin typeface="Times New Roman"/>
              </a:rPr>
              <a:t>Aspectos Económico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7160" y="200016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ada año se venden millones de PCs las cuales poseen muchos tóxicos, debido a la gran contaminación muchas personas están dispuestas a pagar grandes cantidades de dinero por computadores que contengan sustancias menos tóx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Documents and Settings\Familia\Escritorio\dinero71.jpg"/>
          <p:cNvPicPr/>
          <p:nvPr/>
        </p:nvPicPr>
        <p:blipFill>
          <a:blip r:embed="rId1"/>
          <a:stretch/>
        </p:blipFill>
        <p:spPr>
          <a:xfrm>
            <a:off x="4643280" y="4143240"/>
            <a:ext cx="22147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330033"/>
                </a:solidFill>
                <a:latin typeface="Times New Roman"/>
              </a:rPr>
              <a:t>Aspectos Político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8800" y="1856880"/>
            <a:ext cx="7772400" cy="31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países son conscientes del daño q hacemos a nuestro planeta, e implementan leyes para mejorar la protección hacia el medio ambiente; tal es el caso de Europa que es uno de los países que muestran un gran ejemplo, ya que se preocupa po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guir una industria electrónica más consciente ambient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se hacen políticas de reci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Documents and Settings\Familia\Escritorio\reciclar.jpg"/>
          <p:cNvPicPr/>
          <p:nvPr/>
        </p:nvPicPr>
        <p:blipFill>
          <a:blip r:embed="rId1"/>
          <a:stretch/>
        </p:blipFill>
        <p:spPr>
          <a:xfrm>
            <a:off x="6429240" y="4714920"/>
            <a:ext cx="16830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Familia\Escritorio\e-waste.jpg"/>
          <p:cNvPicPr/>
          <p:nvPr/>
        </p:nvPicPr>
        <p:blipFill>
          <a:blip r:embed="rId1"/>
          <a:stretch/>
        </p:blipFill>
        <p:spPr>
          <a:xfrm>
            <a:off x="857160" y="21420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Familia\Escritorio\ewaste.jpg"/>
          <p:cNvPicPr/>
          <p:nvPr/>
        </p:nvPicPr>
        <p:blipFill>
          <a:blip r:embed="rId2"/>
          <a:stretch/>
        </p:blipFill>
        <p:spPr>
          <a:xfrm>
            <a:off x="4214880" y="3214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330033"/>
                </a:solidFill>
                <a:latin typeface="Times New Roman"/>
              </a:rPr>
              <a:t>Aspectos Psicológico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sustancias tóxicas que poseen los aparatos electrónicos pueden causar enfermedades en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:\Documents and Settings\Familia\Escritorio\enfermo[1].gif"/>
          <p:cNvPicPr/>
          <p:nvPr/>
        </p:nvPicPr>
        <p:blipFill>
          <a:blip r:embed="rId1"/>
          <a:stretch/>
        </p:blipFill>
        <p:spPr>
          <a:xfrm>
            <a:off x="4214880" y="3857760"/>
            <a:ext cx="287496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330033"/>
                </a:solidFill>
                <a:latin typeface="Times New Roman"/>
              </a:rPr>
              <a:t>Aspectos Social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7160" y="1999800"/>
            <a:ext cx="777240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a basura electrónica posee sustancias tóxicas que ponen en peligro la salud, no solo de los trabajadores sino también la del pueblo en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a basura electrónica es un gran problema social, ya que todos nos vemos implicados y al final por unos, todos vamos a terminar mal, por esta razón es que todos debemos hacer conciencia del daño que estamos haci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Familia\Escritorio\un-gran-globo-con-la-leyenda.jpg"/>
          <p:cNvPicPr/>
          <p:nvPr/>
        </p:nvPicPr>
        <p:blipFill>
          <a:blip r:embed="rId1"/>
          <a:stretch/>
        </p:blipFill>
        <p:spPr>
          <a:xfrm>
            <a:off x="1071720" y="714240"/>
            <a:ext cx="3396960" cy="5072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Familia\Escritorio\Salvemos-Planeta5208-300.jpg"/>
          <p:cNvPicPr/>
          <p:nvPr/>
        </p:nvPicPr>
        <p:blipFill>
          <a:blip r:embed="rId2"/>
          <a:stretch/>
        </p:blipFill>
        <p:spPr>
          <a:xfrm>
            <a:off x="4714920" y="228600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8:27:04Z</dcterms:created>
  <dc:creator>e02-0730</dc:creator>
  <dc:description/>
  <dc:language>en-US</dc:language>
  <cp:lastModifiedBy>Familia Arias Vargas</cp:lastModifiedBy>
  <dcterms:modified xsi:type="dcterms:W3CDTF">2009-04-11T15:38:22Z</dcterms:modified>
  <cp:revision>30</cp:revision>
  <dc:subject/>
  <dc:title>Obsolescencia del Hardware </dc:title>
</cp:coreProperties>
</file>